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D67-CDCC-4053-BDF9-1E1A21A7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DEA-3AF7-4C9C-9CD3-86FC328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062-CD5C-4A10-B688-5899DCD1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8ED-FB1A-4658-B4B9-CD7ABFB9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9EB-85DD-4CE8-B3B1-34E00D4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832-59A1-4ED7-877F-EC096EC4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3D0-DC9D-4D59-96BA-295F901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DA7-3DD9-4264-9FB9-FE88A55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530-626D-41C8-BF60-FE8EDE6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6E7-CAFD-4CB2-8D68-E46575D9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684-6BC8-426C-9F23-A290709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AD9-9ED7-49BA-A6EB-CFB8008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FB7-E8EB-4873-861B-ABD6113F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 x 5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/9 x 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2 x 1  4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multiply fractions and mixe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8019"/>
                </a:solidFill>
                <a:latin typeface="Academy Engraved LET"/>
              </a:rPr>
              <a:t>Fraction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 #1 rolls 2 dice (one becomes numerator, the other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e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e025"/>
                </a:solidFill>
                <a:latin typeface="Arial"/>
              </a:rPr>
              <a:t>Partner #2 doe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15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50f"/>
                </a:solidFill>
                <a:latin typeface="Arial"/>
              </a:rPr>
              <a:t>Multiply the two fractions.  Be sure to record your work on your paper – it will be turn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35d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35d2"/>
                </a:solidFill>
                <a:latin typeface="Arial"/>
              </a:rPr>
              <a:t>Compare answers to be sure you a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92b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20ff"/>
                </a:solidFill>
                <a:latin typeface="Arial"/>
              </a:rPr>
              <a:t>Repeat completing as many problems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68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680d"/>
                </a:solidFill>
                <a:latin typeface="Arial"/>
              </a:rPr>
              <a:t>For added challenge, roll a 3rd number cube to create mixe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981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1/2 x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 4/5 x  1  3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92880" y="61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book P. 60 12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2:22:27Z</dcterms:created>
  <dc:creator>ccps</dc:creator>
  <dc:description/>
  <dc:language>en-US</dc:language>
  <cp:lastModifiedBy>Brian McGrath</cp:lastModifiedBy>
  <dcterms:modified xsi:type="dcterms:W3CDTF">2011-03-10T03:04:47Z</dcterms:modified>
  <cp:revision>8</cp:revision>
  <dc:subject/>
  <dc:title>Warm-up:</dc:title>
</cp:coreProperties>
</file>